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DD7-F727-456B-B99E-D8FE7F85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4F2-5773-4DD7-B046-F1D0C704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C6B-12BB-4170-B01B-7478373B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DB6-0552-49B1-9345-F99E5417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A57-2775-4D34-9496-30EFCAD1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42A-9A22-4E1A-9B29-D8F99ED6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BE6-4304-44DE-B199-1DC9C39E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33D2-2130-44DC-AAA1-8B2966F7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F59B-423D-4EDA-906E-E8906050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195-B5E1-42A7-AD85-248D274C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BB6-6BEF-436D-AEA1-8E0DD806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A82-345D-4800-8D20-80A620FF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AC76-D3B8-400B-A967-C94BBE85F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F Kennedy Inaugural Addr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age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Not just going to provide freedom to these new developing nations in order to prevent the spread of communism. (paragraph 1 and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essage to the Soviet Union saying that we need to pursue peace. (paragraph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JFK shows negotiating as civilized progress towards our goals instead of a weakness. (paragraph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JFK speaks of how we must not look at our differences but instead learn to solve the common problems that are present in our socie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Nuclear regulatory committ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reedom throughout the world for every single individual. (paragraph 8-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torical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pho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metab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etorical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nd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syndet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F Kenn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est and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tholic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a large position he had to pull during the Co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relations with Soviet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the development of nuclea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the spread of communism (secretive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 the respect and support of the 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 (stop the development of nuclear wa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at the Capitol (red sc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ld (stop the spread of communi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n over 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d over the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people heard the speech even from other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government restrictions within the Soviet Union those in USSR did not view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torical App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thos ( credibility of speaker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ge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JFK respectfully acknowledges all the prominent and average citizens at his inauguration. (paragraph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ennedy speaks of the oath he took as well as our forefather. (paragraph 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mises the world that he will do whatever it takes to help each nation a high level of freedom. (paragraph 5 and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athos (emotional appe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ur hands have the power of great destruction and the ability to solve problems. (paragraph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eir of that first nation”….”Let the word go forth from this time a place” (paragraph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ag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oviet Union and US are wasting money and time on making weapons to destroy all life. (paragraph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ag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Now we as Americans have a call to service and our nations final success and failures lies within our generations. (paragraph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rotect our nation from war and battle all common struggles. (paragraph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Not many other generations have the opportunity to serve their nation in its greatest time of need. (paragraph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ogos (rea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We will preserve freedom by having all the free nations unite. (paragraph 7 and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9:47:40Z</dcterms:created>
  <dc:creator> </dc:creator>
  <dc:description/>
  <dc:language>en-US</dc:language>
  <cp:lastModifiedBy>aps09.turnsham</cp:lastModifiedBy>
  <dcterms:modified xsi:type="dcterms:W3CDTF">2008-04-17T14:27:41Z</dcterms:modified>
  <cp:revision>8</cp:revision>
  <dc:subject/>
  <dc:title>John F Kennedy Inaugural Address</dc:title>
</cp:coreProperties>
</file>